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164-C17F-47B6-9D2F-5D531DF4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024-D4D6-4EC6-9385-4B93EF5B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08F-9EA8-48FA-A33B-B3986881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726-F115-4DA9-B03F-34D896DD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820-4550-44F6-8470-9C458AD6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ECC-5F04-4D51-B889-0650765F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0C3-AAD3-4882-A38F-4769E8E7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525-EB2F-4EEA-91EE-66D361CC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35A-2EB7-420E-A95B-2BBE4B0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C0F-D52E-4119-8DDB-FA49DE7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CC2-79EF-418B-A428-DEE6C9E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255-0E05-4FA9-895D-D555891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933-866F-475F-A710-FEC05DCC6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2 To Slovo tvoje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ovo tvoje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zácne dedič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máme stály sily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iery bohatstv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vojej láske čít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zámer pozn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oje rady pomôž db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zákon pln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spásy je vždy útech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srdcia skrúš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v kríži nádej z tvojich sl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lásky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ovo v tôni lúč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tvojho svetla svit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prijme milosť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bude večne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19:48Z</dcterms:modified>
  <cp:revision>20</cp:revision>
  <dc:subject/>
  <dc:title>Je veľký náš Pán, on slávy je Kráľ Nech do všetkých strán  spev vrúcnych znie chvál.</dc:title>
</cp:coreProperties>
</file>